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0460-B158-4CAE-9E84-3698E64F1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14C1-D941-4EB4-B415-F59E05A83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43BA-B0A7-42F4-BDA6-F411CCAFA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7A41-0878-4B1F-9909-EB34EE927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6760D-962D-49C3-B90F-A9D3FAF9A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BEB23-F88A-4903-83C8-9526BDB36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F0C14-7D22-4CF1-A263-22AEC3E00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73E88-65BF-4E70-BED3-011F339A6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D7409-D574-4E24-BF61-363B74A27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4E70B-5B4D-4FF7-9146-04414DCF3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B84B8-F7BF-406F-BDCD-86B9F31E5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381B-EE85-4D2E-A47C-38D08699F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B9F26-A6ED-4ABE-9052-64CD6C8D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25B83-CAEC-44C1-8546-4C06AE796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03E7E-2F48-4FEE-8534-C4EFC20DE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65F91-1B00-4742-AE7A-7F77B88A2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9429E-1CD7-47EB-A2F9-56CE459C6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B125-4619-48B3-99C5-7AB761162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732C-D018-444F-8CF3-9B7491E6C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ED95-3466-417E-B6AF-56BFFD33C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43AE-EF5D-4638-92B3-D24F79B91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EE6D-8A96-4B01-ABD8-2BD2D4A89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3060-AA69-4168-B1E2-824E40E3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1021-D16F-4A60-83E4-115C0E779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B80E6-904B-47CA-A559-9E71770F21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2880" y="2971800"/>
            <a:ext cx="7313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A2FBC-FD3C-4E05-9B4B-B32FC04A5D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2880" y="2971800"/>
            <a:ext cx="7313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ONSUMO CONSCIE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16000" y="4190760"/>
            <a:ext cx="80280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abriel Galiego Neto (Diretor do NTE de 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zenaide A. S. Vieira (Professora Multiplicador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ALGUMAS CONSIDERAÇÕ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CONTEX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cola Estadual Nair Palácio de Sou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urmas: 8º ano B e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isciplina: Ciên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fessores envolvido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fª. de Ciências: Ediana Milhoranç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fessores da STE: Fernando Milhoranç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Kar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fessores do NTE: Azenaide Viei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rla Vare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JUSTIFICA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OBJETI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PERGUNTAS NORTEADOR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FUNDAMENTAÇÃO TEÓR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ETODOLOGIA E INSTRUM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CRONOGRA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5T22:37:16Z</dcterms:created>
  <dc:creator>User</dc:creator>
  <dc:description/>
  <cp:keywords/>
  <dc:language>en-US</dc:language>
  <cp:lastModifiedBy>NTE LUCIANA</cp:lastModifiedBy>
  <dcterms:modified xsi:type="dcterms:W3CDTF">2008-06-16T18:29:58Z</dcterms:modified>
  <cp:revision>3</cp:revision>
  <dc:subject/>
  <dc:title>CONSUMO CONSCIEN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371046</vt:lpwstr>
  </property>
</Properties>
</file>